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0.png" ContentType="image/png"/>
  <Override PartName="/ppt/media/image17.gif" ContentType="image/gif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gif" ContentType="image/gif"/>
  <Override PartName="/ppt/media/image2.png" ContentType="image/png"/>
  <Override PartName="/ppt/media/image4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989-DCCC-409F-AEB7-E0C890B2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9CC-844B-4E74-9A1B-54AB7BD8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FEC-A04B-4DBD-8A7A-38CCF09C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131-14FB-47BF-8DC8-F88BC8B0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2AF2-9C7D-420F-B07D-20F7E296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CFA1-645E-45FD-BE59-6A9C03D1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89DA-E0CE-4352-A146-45D5698F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54BD-BF5E-40ED-B376-F1A63902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A7C0-F2DD-4B70-8117-8E767EE3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D6B1-F2DF-4730-8ACB-43E8F9EB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F24-3138-4006-A6C8-02E885B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E39-D0A2-4EEB-83DB-4CBD751F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66A9-1E02-4991-B594-87F761E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33EA-6159-4E5C-806B-05F0D7FC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B7BE-E1F2-4376-878B-48192605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4783-6EC9-483B-8D99-FB90F803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8DF2-3B8B-4E9A-A20E-A7C15B16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49887-5627-4E70-889D-FB893F05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21B33-E729-4D61-AB32-B47825AA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EFC9-E555-4438-926D-7AE262A6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23DC-26AA-4E08-8E4E-5DB46425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D102-B723-4914-9422-2C4C491A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A1F-FE3C-4100-9305-7C3D5CFD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84EB-5E49-4B61-8BD6-06D4A6F6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2395-2E2D-4CF1-8D38-5BDFAA6B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96E6-4667-42B8-90A8-07C63611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9918-177F-4539-93D7-93766658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E8D0-A25F-4240-9B8C-342B268B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E9A4-864B-405F-871E-13863110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102E-03CD-482C-ABFB-480D0C0D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76434-DF9D-4032-A3D8-67243C3F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E7C79-E19E-43A9-B2E9-B41A7B97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926F-6FB3-4C45-B215-E4235675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CD7-8475-4E20-BECD-C6A48ECD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0F03-9DAD-4CA9-BC49-D618C430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BC49F-AB7A-461D-8AF0-8DBD070F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13A19-A2CA-437B-9FC6-BD258E24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4E61-835E-4DAE-BF2D-9C4A51B8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7DB35-EF24-417B-8E3C-324E738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F1EF5-833D-4D89-B2A4-04862FC0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5BFE4-ADA3-4A8D-9FEA-628EC06C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76E7-AC6B-4749-8554-A9011D2E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1AFC5-1E6E-44B4-A442-897DB8B6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C74BB-DA42-4FAD-81B1-E375CD36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08A-8B89-479F-B0CA-96BC0E9A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730C0-166E-400F-8F36-0F2DD5F3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A00E8-5CFA-44C5-AB06-F801B3AD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B74F-3BD8-44FB-88C0-7AD5670F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42817-4B75-4C32-B38E-5B85BB8C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D872F-7EA0-49D2-923B-D4EA4559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BC943-1ED3-46C6-9F94-E92F5D8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4BC5B-9DB4-44C0-951A-B46754BF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E95E2-CEE3-41A6-9CD2-267132A0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29067-CD55-444C-8BC1-34A3EB1B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F1059-1651-42C0-859E-7D739E40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457-9604-45A7-880C-3F06B034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65A96-7F90-47C9-8439-DEE904D1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73517-6B3E-4976-AD50-E638284A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39251-6030-402B-87E2-49E33F33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A3CD4-3A3E-46D1-8114-08DBD7C5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5E750-CD7B-4ADA-8C4A-A895C442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CDF3B-FA43-4BFF-B85A-9C52FC00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8C927-3630-4FB3-9DFB-7F79299B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9EE17-948C-4BB1-9A99-614EDE56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5F57E-6D5E-4C98-87BF-986298F0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74822-B86A-4DA7-B05A-053BF558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6E4-5D5D-4B23-81FA-A708B675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71C56-4A79-44A3-BED3-F01DEAEA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B4ABA-5023-46C2-9439-CF68AA17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263A6-6D2C-492C-BA46-7F7ABD2E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7B20B-91AE-4681-BE78-A9758FF4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263F7-9DD2-48AE-B68C-F1333C49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107F2-4021-42AF-BE73-6F2B38F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6156C-FC2A-4803-912F-C58378DC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14F1B-C3DF-4BCE-8921-3086F702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73C72-20DE-4717-8B85-806A1B50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6B602-02E0-4594-97CB-10EC9577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B0F-6030-4176-865B-E100F1F6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84556-A9D3-450B-8D59-2A6D3820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DAE1D-DE24-4D72-B86E-1A6723D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D3CA1-BBBD-414B-BEE8-10585EE8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411C6-4451-4DCD-9862-3B9B60FF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ED2CB-D9E7-4522-9409-3B864C97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82A1C-4326-4040-A596-02131B51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6E1B7-4574-420D-B891-FFC484D2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00789-B3F2-445B-8CE0-C89D9709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5433B-BF26-4410-B050-43483984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EF8BB-E93D-4344-85F8-E3939118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9DF-8719-40F8-A508-41C72C54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2F6C5-4828-4BA3-95A5-DD5A5FD3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B6D53-6ED6-4725-844C-D070E2B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22CD4-7D1F-45DC-899D-4EC6C59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30CFF-ED4F-4D36-83F4-F679C7EC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1D47C-11B7-43DA-8445-2D6799EF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391D3-309F-450D-8469-C10DA9DC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B8CB4-C490-4A27-B672-112415FA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C780-676C-444E-A2BB-2923EFBA6E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20D6-42D0-4BA8-BDBF-5A57313817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27CB-E53E-41AF-AC42-6E851F893B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9121-F2EE-4FC2-9829-481BFAFF8D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A69B-9B8F-4D8A-BE95-3824C35549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5114-AAAE-4472-BF9E-1D9E9AB901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3A99-8C52-42AA-956C-4C5C34A1F0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3BC2-38A0-495C-B8BE-7131194975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9040" y="1384200"/>
            <a:ext cx="8169120" cy="2541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62329"/>
                </a:solidFill>
                <a:latin typeface="Times New Roman"/>
                <a:ea typeface="Times New Roman"/>
              </a:rPr>
              <a:t>Презентацию подготовила учитель русского языка и литературы Коткова Марина Евгеньевн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62329"/>
                </a:solidFill>
                <a:latin typeface="Times New Roman"/>
                <a:ea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6" name="Заголовок 2" descr=""/>
          <p:cNvPicPr/>
          <p:nvPr/>
        </p:nvPicPr>
        <p:blipFill>
          <a:blip r:embed="rId2"/>
          <a:stretch/>
        </p:blipFill>
        <p:spPr>
          <a:xfrm>
            <a:off x="542880" y="1914480"/>
            <a:ext cx="82296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1"/>
          <p:cNvSpPr/>
          <p:nvPr/>
        </p:nvSpPr>
        <p:spPr>
          <a:xfrm>
            <a:off x="646200" y="62064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Прочитайте пословицы, объясните их смысл. Вставьте пропущенные буквы и объясните их прав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"/>
          <p:cNvSpPr/>
          <p:nvPr/>
        </p:nvSpPr>
        <p:spPr>
          <a:xfrm>
            <a:off x="250920" y="2205000"/>
            <a:ext cx="842472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л__нясь, не сорвёшь грибка.(Рус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тем, кто кл__няется, сам до земли кл__няйся. (Башкир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https://avatars.mds.yandex.net/i?id=3f7986b8769e13b22c2894c4bf884f9f_l-5236729-images-thumbs&amp;n=13"/>
          <p:cNvPicPr/>
          <p:nvPr/>
        </p:nvPicPr>
        <p:blipFill>
          <a:blip r:embed="rId1"/>
          <a:stretch/>
        </p:blipFill>
        <p:spPr>
          <a:xfrm>
            <a:off x="5724360" y="3645000"/>
            <a:ext cx="2773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395280" y="836640"/>
            <a:ext cx="8280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В каких словах пишется буква «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кл__ниться  б) накл__н   в) кл__н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В каком слове пишется буква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изл __ жение     б) подр__сла     в) з__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йди ошиб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кланение  б)уклон    в) расклан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D:\Картинки\pictures\для блога\Copy 010.gif"/>
          <p:cNvPicPr/>
          <p:nvPr/>
        </p:nvPicPr>
        <p:blipFill>
          <a:blip r:embed="rId1"/>
          <a:stretch/>
        </p:blipFill>
        <p:spPr>
          <a:xfrm>
            <a:off x="285840" y="214200"/>
            <a:ext cx="2428920" cy="236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D:\Картинки\pictures\для блога\Изображение 182.jpg"/>
          <p:cNvPicPr/>
          <p:nvPr/>
        </p:nvPicPr>
        <p:blipFill>
          <a:blip r:embed="rId2"/>
          <a:stretch/>
        </p:blipFill>
        <p:spPr>
          <a:xfrm>
            <a:off x="5929200" y="2514600"/>
            <a:ext cx="3214800" cy="434340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3" descr=""/>
          <p:cNvPicPr/>
          <p:nvPr/>
        </p:nvPicPr>
        <p:blipFill>
          <a:blip r:embed="rId3"/>
          <a:stretch/>
        </p:blipFill>
        <p:spPr>
          <a:xfrm>
            <a:off x="933480" y="2225520"/>
            <a:ext cx="476568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D:\Картинки\pictures\для блога\Copy 010.gif"/>
          <p:cNvPicPr/>
          <p:nvPr/>
        </p:nvPicPr>
        <p:blipFill>
          <a:blip r:embed="rId1"/>
          <a:stretch/>
        </p:blipFill>
        <p:spPr>
          <a:xfrm>
            <a:off x="285840" y="214200"/>
            <a:ext cx="2428920" cy="2367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D:\Картинки\pictures\для блога\Изображение 182.jpg"/>
          <p:cNvPicPr/>
          <p:nvPr/>
        </p:nvPicPr>
        <p:blipFill>
          <a:blip r:embed="rId2"/>
          <a:stretch/>
        </p:blipFill>
        <p:spPr>
          <a:xfrm>
            <a:off x="5929200" y="2514600"/>
            <a:ext cx="3214800" cy="434340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3" descr=""/>
          <p:cNvPicPr/>
          <p:nvPr/>
        </p:nvPicPr>
        <p:blipFill>
          <a:blip r:embed="rId3"/>
          <a:stretch/>
        </p:blipFill>
        <p:spPr>
          <a:xfrm>
            <a:off x="2712960" y="549360"/>
            <a:ext cx="5888160" cy="2035080"/>
          </a:xfrm>
          <a:prstGeom prst="rect">
            <a:avLst/>
          </a:prstGeom>
          <a:ln w="0">
            <a:noFill/>
          </a:ln>
        </p:spPr>
      </p:pic>
      <p:sp>
        <p:nvSpPr>
          <p:cNvPr id="407" name="TextBox 1"/>
          <p:cNvSpPr/>
          <p:nvPr/>
        </p:nvSpPr>
        <p:spPr>
          <a:xfrm>
            <a:off x="285840" y="2924280"/>
            <a:ext cx="6086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428760" y="28584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Чередование гласных, зависящих от последней согласной корня ( ЛАГ – ЛОЖ, РАСТ ( РАЩ ) – РОС ) и суффикса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2"/>
          <p:cNvSpPr/>
          <p:nvPr/>
        </p:nvSpPr>
        <p:spPr>
          <a:xfrm>
            <a:off x="571680" y="257184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ЛА</a:t>
            </a: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Г </a:t>
            </a:r>
            <a:r>
              <a:rPr b="0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– ЛО</a:t>
            </a: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Ж</a:t>
            </a:r>
            <a:r>
              <a:rPr b="0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(искл.: по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РА</a:t>
            </a: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СТ</a:t>
            </a:r>
            <a:r>
              <a:rPr b="0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( РА</a:t>
            </a: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) – РО</a:t>
            </a: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С</a:t>
            </a:r>
            <a:r>
              <a:rPr b="0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( искл.: рОсток, рОстовщик, Ростов, Ростислав, отрАс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428760" y="28584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Чередование гласных, зависящих от последней согласной кор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( ЛАГ – ЛОЖ, РАСТ ( РАЩ ) – РОС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534960" y="220500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СКА</a:t>
            </a: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– СКО</a:t>
            </a: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Ч</a:t>
            </a:r>
            <a:r>
              <a:rPr b="0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(искл.: скАч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 корне с чередованием -скак-/-скоч- перед к пишется а, а перед ч – о. </a:t>
            </a:r>
            <a:r>
              <a:rPr b="0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Исключения: скачу, скачи, скачок (данные слова и формы образованы от глагола скака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2" descr=""/>
          <p:cNvPicPr/>
          <p:nvPr/>
        </p:nvPicPr>
        <p:blipFill>
          <a:blip r:embed="rId2"/>
          <a:stretch/>
        </p:blipFill>
        <p:spPr>
          <a:xfrm>
            <a:off x="176040" y="1914480"/>
            <a:ext cx="82296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428760" y="189000"/>
            <a:ext cx="82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1. Вставьте пропущенные буквы. С одним из слов придумай и запиши предложение с обращ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642960" y="1928880"/>
            <a:ext cx="785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…щенный, ср…слись, привск…чить, р…сти, выр…стить, изл…гать, р…стение, предл…гать, обр…стает, выск…чка, ср…щение, обл…жение, Р…стов, ск…чок, отр…сль, выл…жить, ср…стись, ск…чи, нал…гается, Р…стислав, пол…жение, ск…кать, выл…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D:\Картинки\pictures\для блога\16322d03178e28b0a91a120f9d1d9e1f.gif"/>
          <p:cNvPicPr/>
          <p:nvPr/>
        </p:nvPicPr>
        <p:blipFill>
          <a:blip r:embed="rId1"/>
          <a:stretch/>
        </p:blipFill>
        <p:spPr>
          <a:xfrm>
            <a:off x="6143760" y="5000760"/>
            <a:ext cx="19047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7"/>
          <p:cNvSpPr/>
          <p:nvPr/>
        </p:nvSpPr>
        <p:spPr>
          <a:xfrm>
            <a:off x="826920" y="333360"/>
            <a:ext cx="700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1014"/>
                </a:solidFill>
                <a:latin typeface="Arial"/>
              </a:rPr>
              <a:t>2. Исправьте орфографические и пунктуационные ошибки в тек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3"/>
          <p:cNvSpPr/>
          <p:nvPr/>
        </p:nvSpPr>
        <p:spPr>
          <a:xfrm>
            <a:off x="428760" y="1054080"/>
            <a:ext cx="8286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весны первыми встричают лесные травы. Как только сойдет снег на земле мы сначала видем только буроватый слой прошлогодний листвы. Первое время он мокрый, и глаткий но скоро опавшая листва подсыхаит становиться рыхлой шуршит под ногами. Иногда прямо из под снега начинают проростать «торопливые» ростения. Проходет несколько дней и вместо крошечных нежных растков мы с удевлением замечаим сиреневые хохлатки синии цветки пролески ярко-желтые вереницы. Цветущих ростений в лесу много они ростут очень гу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5" descr="C:\Users\1\Desktop\Фотоальбом\МОУ-сош №13, мой класс\7 Б -2009-2010 уч.год\Уборка на Дзоте\IMG_0963 - копия.JPG"/>
          <p:cNvPicPr/>
          <p:nvPr/>
        </p:nvPicPr>
        <p:blipFill>
          <a:blip r:embed="rId1"/>
          <a:stretch/>
        </p:blipFill>
        <p:spPr>
          <a:xfrm>
            <a:off x="285840" y="4572000"/>
            <a:ext cx="2325600" cy="18432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7"/>
          <p:cNvSpPr/>
          <p:nvPr/>
        </p:nvSpPr>
        <p:spPr>
          <a:xfrm>
            <a:off x="1285920" y="571680"/>
            <a:ext cx="700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1014"/>
                </a:solidFill>
                <a:latin typeface="Arial"/>
              </a:rPr>
              <a:t>2. Исправьте орфографические и пунктуационные ошибки в тек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3"/>
          <p:cNvSpPr/>
          <p:nvPr/>
        </p:nvSpPr>
        <p:spPr>
          <a:xfrm>
            <a:off x="428760" y="1357200"/>
            <a:ext cx="828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ход весны первыми встр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ют лесные травы. Как только сойдет снег на земле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мы сначала вид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 только буроватый слой прошлогодний листвы. Первое время он мокрый, и гла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ий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о скоро опавшая листва подсыха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тановиться рыхлой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уршит под ногами. Иногда прямо из под снега начинают прор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ть «торопливые» р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ения. Проход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 несколько дней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вместо крошечных нежных р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ков мы с уд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ением замеча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 сиреневые хохлатки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ини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цветки- пролески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ярко-желтые вереницы. Цветущих р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ений в лесу много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они р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ут очень гу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C:\Users\1\Desktop\Фотоальбом\с телефона фотки\Природа\Пролеска.jpg"/>
          <p:cNvPicPr/>
          <p:nvPr/>
        </p:nvPicPr>
        <p:blipFill>
          <a:blip r:embed="rId2"/>
          <a:stretch/>
        </p:blipFill>
        <p:spPr>
          <a:xfrm>
            <a:off x="3214800" y="45720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1\Desktop\Фотоальбом\с телефона фотки\Природа\Подснежники.jpg"/>
          <p:cNvPicPr/>
          <p:nvPr/>
        </p:nvPicPr>
        <p:blipFill>
          <a:blip r:embed="rId3"/>
          <a:stretch/>
        </p:blipFill>
        <p:spPr>
          <a:xfrm>
            <a:off x="6072120" y="4572000"/>
            <a:ext cx="238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500040" y="21420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Чередование гласных, зависящих от ударения (ГОР – ГАР, ЗАР – З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2"/>
          <p:cNvSpPr/>
          <p:nvPr/>
        </p:nvSpPr>
        <p:spPr>
          <a:xfrm>
            <a:off x="500040" y="13413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ОТ УДА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ГОР – ГАР (искл.: выгАрк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ЗАР - 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4"/>
          <p:cNvSpPr/>
          <p:nvPr/>
        </p:nvSpPr>
        <p:spPr>
          <a:xfrm flipV="1">
            <a:off x="2428200" y="3285720"/>
            <a:ext cx="142920" cy="214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Сова Дисней гифка - Сова Дисней Уолт дисней GIF"/>
          <p:cNvPicPr/>
          <p:nvPr/>
        </p:nvPicPr>
        <p:blipFill>
          <a:blip r:embed="rId1"/>
          <a:stretch/>
        </p:blipFill>
        <p:spPr>
          <a:xfrm>
            <a:off x="5133960" y="3500280"/>
            <a:ext cx="30970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500040" y="21420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Чередование гласных, зависящих от ударения (ГОР – ГАР, ЗАР – ЗОР…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500040" y="1341360"/>
            <a:ext cx="77868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ОТ УДА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ЛОН-К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тся              раскл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ься                 покл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ие                   накл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л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ться             укл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4"/>
          <p:cNvSpPr/>
          <p:nvPr/>
        </p:nvSpPr>
        <p:spPr>
          <a:xfrm flipV="1">
            <a:off x="2428200" y="3285720"/>
            <a:ext cx="142920" cy="214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3:19:58Z</dcterms:created>
  <dc:creator>Татьяна</dc:creator>
  <dc:description>Корпорация Майкрософт</dc:description>
  <cp:keywords>Корпорация Майкрософт</cp:keywords>
  <dc:language>en-US</dc:language>
  <cp:lastModifiedBy>СОЛНЫШКО</cp:lastModifiedBy>
  <dcterms:modified xsi:type="dcterms:W3CDTF">2024-04-11T10:22:03Z</dcterms:modified>
  <cp:revision>10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801049</vt:lpwstr>
  </property>
</Properties>
</file>